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9B3E8-3543-4D66-B111-40923F940D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85211-B05F-40FE-A6D5-F6E98688A4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324FA-2CEA-4495-B2A4-35A81C69DD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3563C-7A39-419E-B955-EF24484CE1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567CC8-DFAE-42A0-A38C-EB05A5A71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FD2D3-F66E-4E0D-A0D4-5BA0BD92DA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61543C-DD52-4E08-A0D2-EEB2091DA4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CDF177-4F4B-43F1-A109-CF3A211A9E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1B568A-B8FD-4AA0-BE92-B9F803658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90317C-71E6-422F-AC9D-B961B70573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50D70-B741-4408-A6B0-03D3BE8EAF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EBB232-6328-4431-9691-EF4FA473D9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5F82E2-04C7-4B3F-A98C-FA560E5F68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77685-1299-4390-A068-D795506C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E13F6B-20FB-4AF5-A5EE-D7B89EA9EB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17BD0B-E3DC-4196-8281-2AD7E00CA5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F5521E-0D94-4842-9A3A-09199BF738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A8E0C-688C-4407-A948-3D1A3CEBD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30F0-3507-46D3-9763-FD53117C49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BC835-692C-4140-9E17-72C3ADBD78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8508-950E-4B35-8F38-341B4CC37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ABB19-2FCA-4E6E-98F3-133B75C47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68512-4E2A-4358-879D-B56DBA70B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3EEFF-8469-4DD1-B35F-8BFD6AE76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9E8F9-18C0-44AD-81E2-F36BE7D98229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A3338A-AD9C-4A16-BF55-3F6184C1B77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4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LAN System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llis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 baseband bus, collision produces much higher signal voltage tha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llision detected if cable signal greater than single station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attenuated over dista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 distance to 500m (10Base5) or 200m (10Base2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r twisted pair (star-topology) activity on more than one port is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al collision presenc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 802.3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0" t="0" r="0" b="18251"/>
          <a:stretch/>
        </p:blipFill>
        <p:spPr>
          <a:xfrm>
            <a:off x="457200" y="2019240"/>
            <a:ext cx="8153280" cy="2359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Mbps Specification (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&lt;data rate&gt;&lt;Signaling method&gt;&lt;Max segment length&gt;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5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2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T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Base-F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axial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50nm fib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aseband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nches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n/Off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ology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a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d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0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3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528920"/>
                <a:tab algn="l" pos="1622520"/>
                <a:tab algn="l" pos="2951280"/>
                <a:tab algn="l" pos="4573440"/>
                <a:tab algn="l" pos="63849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100Mbps (Fast Ethernet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        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FX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Base-T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S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pair, Cat 5UTP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2 optical fib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 pair, cat 3,4,5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LT-3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4B5B,NRZI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8B6T,NRZ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1811160"/>
                <a:tab algn="l" pos="4292640"/>
                <a:tab algn="l" pos="61977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Configu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19379"/>
          <a:stretch/>
        </p:blipFill>
        <p:spPr>
          <a:xfrm>
            <a:off x="1447920" y="1371600"/>
            <a:ext cx="6248160" cy="545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Differen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 exten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t least 4096 bit-times long (512 for 10/100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 burs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igabit Ethernet - Physic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S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rt wavelength, multi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L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ng wavelength, Multi or single mode 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C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pper jumpers &lt;25m, shielded twisted pai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0Base-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 pairs, cat 5 UT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 - 8B/10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(802.5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C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mall frame (token) circulates when id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waits for toke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anges one bit in token to make it SOF for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nd rest of data fra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kes round trip and is absorbed by transmitting st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then inserts new token when transmission has finished and leading edge of returning frame arriv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light loads, some ineffici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der heavy loads, round rob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rcRect l="0" t="0" r="0" b="10579"/>
          <a:stretch/>
        </p:blipFill>
        <p:spPr>
          <a:xfrm>
            <a:off x="3322800" y="0"/>
            <a:ext cx="5887800" cy="6791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oken Ring MAC Fra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rcRect l="0" t="0" r="0" b="9536"/>
          <a:stretch/>
        </p:blipFill>
        <p:spPr>
          <a:xfrm>
            <a:off x="152280" y="1371600"/>
            <a:ext cx="8763120" cy="5500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thernet (CSAM/CD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rs Sense Multiple Access with Collis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Xerox - Eth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iorit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17199"/>
          <a:stretch/>
        </p:blipFill>
        <p:spPr>
          <a:xfrm>
            <a:off x="2514600" y="380880"/>
            <a:ext cx="6629400" cy="623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dicated Token R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entral hub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ts as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ll duplex point to point lin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centrator acts as frame level repea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oken pa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5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UTP,STP,Fi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Differential Manche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Fram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455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82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ss Control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P or DTR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T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1Gbit in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2668680"/>
                <a:tab algn="l" pos="4479840"/>
                <a:tab algn="l" pos="4762440"/>
                <a:tab algn="l" pos="629136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AN and MAN applica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ken R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Frame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1" name="" descr=""/>
          <p:cNvPicPr/>
          <p:nvPr/>
        </p:nvPicPr>
        <p:blipFill>
          <a:blip r:embed="rId1"/>
          <a:srcRect l="0" t="0" r="0" b="19401"/>
          <a:stretch/>
        </p:blipFill>
        <p:spPr>
          <a:xfrm>
            <a:off x="457200" y="1905120"/>
            <a:ext cx="8153280" cy="38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MAC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 for 802.5 except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 seizes token by aborting token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ce token captured, one or more data frames 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token released as soon as transmission finished (early token release in 802.5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7721"/>
          <a:stretch/>
        </p:blipFill>
        <p:spPr>
          <a:xfrm>
            <a:off x="3971880" y="385920"/>
            <a:ext cx="5019840" cy="6319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DDI Physical Lay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diu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cal Fiber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isted Pai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ing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B/5B/NRZI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LT-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3527280"/>
                <a:tab algn="l" pos="59040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tween repeater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km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00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LAN Gener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r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/CD and token 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rminal to host and client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rate data ra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DD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ckb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performance workst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ggregate throughput and real time support for multimedia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ird Generation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multiple guaranteed class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ve video may nee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le transfer can use background cla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calable 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oth aggregate and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ilitate LAN/WAN internetwor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EEE802.3 Medium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dom Acc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access medium random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ten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s content for time on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ynchronous Transfer M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irtual paths and virtual chann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onfigured or switch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ateway to ATM W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ckbone ATM swi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TM switch or local network of ATM switch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orkgroup AT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ed directly to ATM swi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ixed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ATM LA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0789"/>
          <a:stretch/>
        </p:blipFill>
        <p:spPr>
          <a:xfrm>
            <a:off x="457200" y="1371600"/>
            <a:ext cx="8153280" cy="5081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TM LAN HU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1135" t="11197" r="1418" b="10948"/>
          <a:stretch/>
        </p:blipFill>
        <p:spPr>
          <a:xfrm>
            <a:off x="457200" y="1343160"/>
            <a:ext cx="8153280" cy="4890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tibilit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end system on ATM and end system on legacy LA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same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action between stations on legacy LANs of different typ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- Backgrou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/O chann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point to point or multipoint comms lin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rdware ba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Sp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ery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data moved from source buffer to destiation buff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connected access poi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ftware based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, error detection &amp;reco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nd systems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est of both technolog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annel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type qualifiers for routing frame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ink level constructs associated with I/O o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tocol interface specifications to support existing I/O architectur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74240" indent="-214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ll multiplexing between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er to peer connectiv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working to other connection techn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Elemen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- No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witched elements - the network or fabric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 across point to point lin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Networ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7" name="" descr=""/>
          <p:cNvPicPr/>
          <p:nvPr/>
        </p:nvPicPr>
        <p:blipFill>
          <a:blip r:embed="rId1"/>
          <a:srcRect l="0" t="0" r="0" b="19158"/>
          <a:stretch/>
        </p:blipFill>
        <p:spPr>
          <a:xfrm>
            <a:off x="457200" y="1828800"/>
            <a:ext cx="8153280" cy="447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0 Physical Medi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ptical fiber for long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axial cable for high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P for lower speed short dist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1 Transmiss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B/10B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5360" indent="-3153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2 Framing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polog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ing forma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and error contr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83280" indent="-2628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s and exchanges (logical grouping of fram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3 Common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multicas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C-4 Map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pping of channel and network services onto fiber chann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IEEE 802, ATM, IP, SCS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ber Channel Protocol Architecture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et Rad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station has frame, it s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 listens (for max round trip time)plus small incr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ACK, fine.  If not,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 ACK after repeated transmissions, give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check sequence (as in HDLC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frame OK and address matches receiver, send 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may be damaged by noise or by another station transmitting at the same time (collis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 overlap of frames causes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18%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EEE 802.1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ic service set (cel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stations using same MAC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eting to access shared mediu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be isol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connect to backbone via access point (bridg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tended service 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or more BSS connected by distribute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ears as single logic LAN to LLC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st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onary or moves within direct communication range of single B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es between BSS within single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S transi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m a BSS in one ESS to a BSS in another 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ruption of service lik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reless LAN - Physical 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ra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and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velength 850-950n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p to 7 chann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ping spread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2.4GHz ISM ba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Mbps or 2Mb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under develop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edia Access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wireless foundation MAC (DWFMAC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stributed coordination function (D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SM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collision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int coordination function (PCF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lling of central mas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802.11 MAC Tim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1" name="" descr=""/>
          <p:cNvPicPr/>
          <p:nvPr/>
        </p:nvPicPr>
        <p:blipFill>
          <a:blip r:embed="rId1"/>
          <a:srcRect l="0" t="0" r="0" b="15674"/>
          <a:stretch/>
        </p:blipFill>
        <p:spPr>
          <a:xfrm>
            <a:off x="1066680" y="1371600"/>
            <a:ext cx="6248520" cy="544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eb sites on Ethernet, Token ring, FDDI, ATM etc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lotted ALOH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in uniform slots equal to frame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central clock (or other sync mechanis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begins at slot bound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mes either miss or overlap tot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utilization 37%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pagation time is much less than transmission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tations know that a transmission has started almost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listen for clear medium (carrier sens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wo stations start at the same instant, colli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reasonable time (round trip  plus ACK contention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ACK then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 utilization depends on propagation time (medium length) and frame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onger frame and shorter propagation gives better uti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f Busy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s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 then transmit immedi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wo stations are waiting, colli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ith CSMA, collision occupies medium for duration of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ions listen whilst transmit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medium idle,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busy, listen for idle, then 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collision detected, jam then cease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jam, wait random time then start aga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 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SMA/CD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rcRect l="0" t="0" r="0" b="8798"/>
          <a:stretch/>
        </p:blipFill>
        <p:spPr>
          <a:xfrm>
            <a:off x="3038400" y="252360"/>
            <a:ext cx="5572080" cy="607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8T08:10:31Z</dcterms:created>
  <dc:creator>Adrian &amp; Wendy</dc:creator>
  <dc:description/>
  <dc:language>en-US</dc:language>
  <cp:lastModifiedBy>Adrian &amp; Wendy</cp:lastModifiedBy>
  <dcterms:modified xsi:type="dcterms:W3CDTF">1999-10-18T12:47:38Z</dcterms:modified>
  <cp:revision>42</cp:revision>
  <dc:subject/>
  <dc:title>William Stallings Data and Computer Communications</dc:title>
</cp:coreProperties>
</file>